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pct" ContentType="image/x-pict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22BA7-3FD8-450D-8FAF-C14766DD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0D671-0BF0-4D3A-B22F-64FEE4AB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CB28A-1640-4934-9F09-DABEC3DD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5C4B0-EB03-4DD0-9AC1-076B3C7F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49EE-6CD1-42BF-B209-6118B305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1B35-4212-4A61-8481-7E642F05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4601-E28F-45AD-A9D9-380D6049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30A0-19C8-4FA0-BFE5-D7F9DA0C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31D8-4E0F-4986-A296-053B54FF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C307-BD3A-4C34-9EF4-399EDE0D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5941-A12E-415E-A326-9CA6C816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76F54-4EE2-41ED-AFCF-352415B0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3829-1BBD-474A-AEAC-BD460FD7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558C-F6E4-4277-A68A-0DC37581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F27A-5E87-49EE-937A-5AB1D9D4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3CAE-7D43-48E5-90A1-22C9F2FC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8C7D-EC3B-44D2-9D2C-3D294080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A31E8-50F4-43AE-8685-53A98578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CA3DE-8609-4C4F-9FF1-79B2F757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DAB0B-A129-44A1-8B2C-17A4929C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63A63-71A1-4ACB-8DF0-28CABBD8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082CF-DFF2-45BB-BD66-E5A58D14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5FE48-A786-4053-8542-E5BEE167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E4183-9915-4E43-8905-9AB1D964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957A-1E73-4C45-8FDF-89DAE5E237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3B32-B4FC-4EB0-90DB-25D2B6821A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onelyplanet.com/dominican-republic" TargetMode="External"/><Relationship Id="rId2" Type="http://schemas.openxmlformats.org/officeDocument/2006/relationships/hyperlink" Target="http://www.lonelyplanet.com/dominican-republic/restaurants" TargetMode="External"/><Relationship Id="rId3" Type="http://schemas.openxmlformats.org/officeDocument/2006/relationships/hyperlink" Target="http://www.lonelyplanet.com/dominican-republic/entertainment-nightlife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e5e5ff"/>
                </a:solidFill>
                <a:latin typeface="Bradley Hand ITC"/>
              </a:rPr>
              <a:t>Dominican Republic</a:t>
            </a: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3792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86e0"/>
                </a:solidFill>
                <a:latin typeface="Garamond"/>
              </a:rPr>
              <a:t>By: Matt Gre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Playita (Little Beach)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190512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Bradley Hand ITC TT-Bold"/>
              </a:rPr>
              <a:t>Dominican</a:t>
            </a:r>
            <a:r>
              <a:rPr b="1" lang="en-US" sz="6600" spc="-1" strike="noStrike">
                <a:solidFill>
                  <a:srgbClr val="003399"/>
                </a:solidFill>
                <a:latin typeface="Bradley Hand ITC TT-Bold"/>
              </a:rPr>
              <a:t> </a:t>
            </a:r>
            <a:r>
              <a:rPr b="1" lang="en-US" sz="6600" spc="-1" strike="noStrike">
                <a:solidFill>
                  <a:srgbClr val="ffffff"/>
                </a:solidFill>
                <a:latin typeface="Bradley Hand ITC TT-Bold"/>
              </a:rPr>
              <a:t>Republic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64911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By: Matt G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52480" y="533520"/>
            <a:ext cx="5486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 HOT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14600" y="4267080"/>
            <a:ext cx="3952800" cy="2590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410080" y="1371600"/>
            <a:ext cx="3124440" cy="284796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3124440" cy="285768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666880" y="5105520"/>
            <a:ext cx="4064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Lu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Querido Papa,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Hoy jegué en mi hotel.  Mi hotel es en Santo Domingo, Dominican Republic.  Es muy grande y es fantastico.  Hace buen tiempo. El sol es brilla en el cielo, es bonita.  Mi hotel es cerca de el mar.  Mi hotel tiene una vista all mar.  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Esto va a ser una gran semana.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Amor, Matte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14400" y="3938760"/>
            <a:ext cx="75438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r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Querida Mama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Hoy es mucho calor y parecía un día perfecto para la playa. Fui a la Playa Grande en Puerto Plata.  Yo traje mi toalla playera y mi crème protectora.   Tomé mucho nado en el fresco mar. 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También tomé en el sol por un tiempo. Con el tiempo me fui a dormir.   Después de un largo dia en la Playa Grande, fui la cena en </a:t>
            </a:r>
            <a:r>
              <a:rPr b="1" lang="en-US" sz="1800" spc="-1" strike="noStrike">
                <a:solidFill>
                  <a:srgbClr val="ffffff"/>
                </a:solidFill>
                <a:latin typeface="Bradley Hand ITC TT-Bold"/>
              </a:rPr>
              <a:t>Mesón del Jamón.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  Lo fui muy delicioso.  Hoy es magnifico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Amor, Matteo</a:t>
            </a:r>
            <a:r>
              <a:rPr b="0" lang="es-ES" sz="2400" spc="-1" strike="noStrike">
                <a:solidFill>
                  <a:srgbClr val="ffffff"/>
                </a:solidFill>
                <a:latin typeface="Bradley Hand ITC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4400" y="3938760"/>
            <a:ext cx="7543800" cy="2187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Meirco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Querida Livi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Hoy esta 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nublado y lloviendo mucho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.  Así que me decidí a ir de compras. Centro de la ciudad es lleno con mucho culturas.  Es muy bonita. Es como el Nueva York de la República Dominicana.  Compré mucho ropas y nick-nacks en el Supermercado Nacional.  Compré tu “República Dominicana” camiseta y un sombrero.  El sombrero es muy grand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Amor, Matteo</a:t>
            </a:r>
            <a:r>
              <a:rPr b="0" lang="es-ES" sz="2400" spc="-1" strike="noStrike">
                <a:solidFill>
                  <a:srgbClr val="ffffff"/>
                </a:solidFill>
                <a:latin typeface="Bradley Hand ITC TT-Bold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4400" y="3938760"/>
            <a:ext cx="7467480" cy="2187360"/>
          </a:xfrm>
          <a:prstGeom prst="rect">
            <a:avLst/>
          </a:prstGeom>
          <a:ln w="38160">
            <a:solidFill>
              <a:srgbClr val="7f67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Jue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Querido Khailil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Yo fui a la Playa Grande de nuevo hoy porque hoy es mucho calor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.  Esta vez yo traté tabla hawaiana.  Es muy difícil.  Las grandes olas hizo aún más difícil. Después de un difícil dia en la Playa Grande, fui a un club, Guácara Taína.  El club había muchas personas en él. Hubo música y baile.  Fue muy divertido. 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A mí me gustó mucho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radley Hand ITC TT-Bold"/>
              </a:rPr>
              <a:t>Hasta pronto, Matteo</a:t>
            </a:r>
            <a:r>
              <a:rPr b="0" lang="es-ES" sz="2400" spc="-1" strike="noStrike">
                <a:solidFill>
                  <a:srgbClr val="ffffff"/>
                </a:solidFill>
                <a:latin typeface="Bradley Hand IT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3938760"/>
            <a:ext cx="7543800" cy="218736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Vier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Quierda Emma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Hoy es mi pasado dia.  Hoy es calor y un poco nublado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Me decidí a ir a mirar un evento deportivo. El deporte fue el b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  <a:ea typeface="ヒラギノ角ゴ ProN W3"/>
              </a:rPr>
              <a:t>éi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bol. Miré dos equipos, el equipo Licey y Escogido equipo, el juego. Fue incre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  <a:ea typeface="ヒラギノ角ゴ ProN W3"/>
              </a:rPr>
              <a:t>íb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  <a:ea typeface="AppleGothic"/>
              </a:rPr>
              <a:t>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e. Me encantó mirar la versi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ón 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de un país diferente de un deporte americano. Espero que algún día yo pueda traer aquí para mirar conmigo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radley Hand ITC TT-Bold"/>
              </a:rPr>
              <a:t>Amor, Matte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>
            <a:off x="1913040" y="790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3938760"/>
            <a:ext cx="7620120" cy="2187360"/>
          </a:xfrm>
          <a:prstGeom prst="rect">
            <a:avLst/>
          </a:prstGeom>
          <a:ln w="38160">
            <a:solidFill>
              <a:srgbClr val="2a54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ibliograph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430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lonelyplanet.com/dominican-republ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lonelyplanet.com/dominican-republic/restaura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http://www.lonelyplanet.com/dominican-republic/entertainment-nightlif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lonelyplanet.com/dominican-republic/travel-tips-and-articles/7682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lonelyplanet.com/dominican-republic/travel-tips-and-articles/3762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hotels.lonelyplanet.com/dominican-republic/santo-domingo-r1974442/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images.google.com/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36:50Z</dcterms:created>
  <dc:creator>greenmat</dc:creator>
  <dc:description/>
  <dc:language>en-US</dc:language>
  <cp:lastModifiedBy>sandra green</cp:lastModifiedBy>
  <dcterms:modified xsi:type="dcterms:W3CDTF">2011-12-02T21:06:52Z</dcterms:modified>
  <cp:revision>15</cp:revision>
  <dc:subject/>
  <dc:title>Dominican Republic</dc:title>
</cp:coreProperties>
</file>